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779-9E9E-453C-993C-EC780BB5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701-3103-42CA-B59F-868F71A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CE8-3E7C-4D22-83B5-957925E2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838-18EA-4625-9AED-FE854EDD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B18-9D45-45F0-8AA4-B33E5032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F36-B87B-4D18-94F0-FFAE068B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EE9-7A3D-4754-85F4-263924E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96F-7F8A-48F5-B00A-7274E29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A99-2E3E-4194-8EA9-AEF09E8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2224-75F2-40B8-AB89-6293C920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2632-65E4-4115-B105-6A15572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DA7-F05F-4A9E-96CB-9629C138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6A29-FD7B-47B9-958E-B2705C94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0621-6847-4747-995C-197149B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11E-BE02-476E-8004-BBCF0DB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3B9F-750B-4171-9CE6-691D08BD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4B7-C3DC-42FC-8D1A-CDC2C9F0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C7B-4105-4A3C-97F9-E90C108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3CB-EBA6-48C1-9522-88667D3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AB9-8394-445E-8AB1-874DB32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6E3-ED28-4222-A12F-B207CA5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6F3-9369-47C8-B152-82CBD60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210-840C-400B-9D99-A10405A2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126-6A4A-4EA7-817B-737F2DB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5D16-6A44-4C64-ADD3-01E26244109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236-CD5C-44EF-8CA7-6B02FB612C6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To stare at angril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glar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s : rude st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glar-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s :ign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3237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orytell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Definition: A person who tells sto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Synonyms: read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Antonyms: danc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Syllable: Story-tell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Base word: storyt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Inflection: er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605560" y="2081160"/>
            <a:ext cx="1895400" cy="178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: to sign out and tak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nonyms: tra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tonyms:  ste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 Word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llable: Check-ou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68800" y="4114800"/>
            <a:ext cx="2967120" cy="1981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30760" y="2373480"/>
            <a:ext cx="184464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 :To take with permiss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nonyms le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tonyms: ste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llable: bor.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 word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flection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78640" y="319104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ag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28T18:27:28Z</dcterms:modified>
  <cp:revision>7</cp:revision>
  <dc:subject/>
  <dc:title>PowerPoint Presentation</dc:title>
</cp:coreProperties>
</file>